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413-85FF-48B4-ABDC-4E79DBA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0E8-248D-454D-AADD-1850AA5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F0C-C8FE-4C4D-85F2-604CC910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F66-0CD2-4085-9445-2766792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C73-04E1-43FE-9712-48E1440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D58-E474-4A79-B6E8-4799DFE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F36-302F-401B-A6D4-F264797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AE1-DDE1-4980-8E4C-9B1FC3B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9E-F2E9-4C52-BBC8-5A17293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0ED-EB60-416E-B8FD-C305309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397-4179-42C1-BA90-39A5ADD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D5F-334A-4EA0-911E-2672D99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3250-DB0F-48A7-8DE7-A114E2C8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2031840" y="1752480"/>
            <a:ext cx="5334120" cy="350532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prstDash val="sys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2489040" y="1905120"/>
            <a:ext cx="4267440" cy="2209680"/>
          </a:xfrm>
          <a:prstGeom prst="rect">
            <a:avLst/>
          </a:prstGeom>
          <a:solidFill>
            <a:srgbClr val="c1c1c1"/>
          </a:solidFill>
          <a:ln w="19080">
            <a:solidFill>
              <a:srgbClr val="000000"/>
            </a:solidFill>
            <a:prstDash val="sys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1376280" cy="86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4"/>
          <p:cNvSpPr/>
          <p:nvPr/>
        </p:nvSpPr>
        <p:spPr>
          <a:xfrm>
            <a:off x="2031840" y="4267080"/>
            <a:ext cx="54104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rth Observ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rface, Satellite,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540160" y="1938240"/>
            <a:ext cx="1376280" cy="870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65360" y="2061360"/>
            <a:ext cx="133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8204040" y="1905120"/>
            <a:ext cx="1378080" cy="868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8302680" y="2076480"/>
            <a:ext cx="125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5283360" y="1930320"/>
            <a:ext cx="13762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288040" y="2002680"/>
            <a:ext cx="125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5"/>
          <a:stretch/>
        </p:blipFill>
        <p:spPr>
          <a:xfrm>
            <a:off x="3933720" y="2336760"/>
            <a:ext cx="1344600" cy="111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6"/>
          <a:stretch/>
        </p:blipFill>
        <p:spPr>
          <a:xfrm>
            <a:off x="6705720" y="2244600"/>
            <a:ext cx="1533240" cy="1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7"/>
          <a:stretch/>
        </p:blipFill>
        <p:spPr>
          <a:xfrm>
            <a:off x="3784680" y="2895480"/>
            <a:ext cx="1546200" cy="107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3860640" y="3054240"/>
            <a:ext cx="1424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8"/>
          <a:stretch/>
        </p:blipFill>
        <p:spPr>
          <a:xfrm>
            <a:off x="6673680" y="2941560"/>
            <a:ext cx="1546560" cy="10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6735600" y="3222360"/>
            <a:ext cx="1425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9"/>
          <a:stretch/>
        </p:blipFill>
        <p:spPr>
          <a:xfrm flipH="1">
            <a:off x="4470120" y="2336760"/>
            <a:ext cx="75960" cy="59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0"/>
          <a:stretch/>
        </p:blipFill>
        <p:spPr>
          <a:xfrm>
            <a:off x="7418520" y="2357280"/>
            <a:ext cx="44280" cy="595440"/>
          </a:xfrm>
          <a:prstGeom prst="rect">
            <a:avLst/>
          </a:prstGeom>
          <a:ln w="0">
            <a:noFill/>
          </a:ln>
        </p:spPr>
      </p:pic>
      <p:pic>
        <p:nvPicPr>
          <p:cNvPr id="59" name="Text Box 19" descr=""/>
          <p:cNvPicPr/>
          <p:nvPr/>
        </p:nvPicPr>
        <p:blipFill>
          <a:blip r:embed="rId11"/>
          <a:stretch/>
        </p:blipFill>
        <p:spPr>
          <a:xfrm>
            <a:off x="-6480" y="1974960"/>
            <a:ext cx="143352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12"/>
          <a:stretch/>
        </p:blipFill>
        <p:spPr>
          <a:xfrm>
            <a:off x="1398600" y="2333520"/>
            <a:ext cx="1130400" cy="11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13"/>
          <a:stretch/>
        </p:blipFill>
        <p:spPr>
          <a:xfrm>
            <a:off x="1219320" y="3054240"/>
            <a:ext cx="1546200" cy="1081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2"/>
          <p:cNvSpPr/>
          <p:nvPr/>
        </p:nvSpPr>
        <p:spPr>
          <a:xfrm>
            <a:off x="1263600" y="3267720"/>
            <a:ext cx="1425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3" descr=""/>
          <p:cNvPicPr/>
          <p:nvPr/>
        </p:nvPicPr>
        <p:blipFill>
          <a:blip r:embed="rId14"/>
          <a:stretch/>
        </p:blipFill>
        <p:spPr>
          <a:xfrm>
            <a:off x="1928880" y="2438280"/>
            <a:ext cx="44280" cy="594000"/>
          </a:xfrm>
          <a:prstGeom prst="rect">
            <a:avLst/>
          </a:prstGeom>
          <a:ln w="0">
            <a:noFill/>
          </a:ln>
        </p:spPr>
      </p:pic>
      <p:sp>
        <p:nvSpPr>
          <p:cNvPr id="64" name="Curved Up Arrow 23"/>
          <p:cNvSpPr/>
          <p:nvPr/>
        </p:nvSpPr>
        <p:spPr>
          <a:xfrm rot="10800000">
            <a:off x="202680" y="533160"/>
            <a:ext cx="8915400" cy="1371600"/>
          </a:xfrm>
          <a:custGeom>
            <a:avLst/>
            <a:gdLst>
              <a:gd name="textAreaLeft" fmla="*/ 2100240 w 8915400"/>
              <a:gd name="textAreaRight" fmla="*/ 6643440 w 891540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77" hR="21600" stAng="10800000" swAng="-5400000"/>
                <a:lnTo>
                  <a:pt x="11007" y="21600"/>
                </a:lnTo>
                <a:arcTo wR="10177" hR="21600" stAng="5400000" swAng="-3676610"/>
                <a:lnTo>
                  <a:pt x="21277" y="5400"/>
                </a:lnTo>
                <a:lnTo>
                  <a:pt x="20769" y="0"/>
                </a:lnTo>
                <a:lnTo>
                  <a:pt x="19615" y="5400"/>
                </a:lnTo>
                <a:lnTo>
                  <a:pt x="20031" y="5400"/>
                </a:lnTo>
                <a:arcTo wR="10177" hR="21600" stAng="1723390" swAng="3610513"/>
                <a:lnTo>
                  <a:pt x="10592" y="21582"/>
                </a:lnTo>
                <a:arcTo wR="10177" hR="21600" stAng="5466096" swAng="5333904"/>
                <a:close/>
              </a:path>
              <a:path fill="darkenLess" w="21600" h="21600">
                <a:moveTo>
                  <a:pt x="0" y="0"/>
                </a:moveTo>
                <a:arcTo wR="10177" hR="21600" stAng="10800000" swAng="-5400000"/>
                <a:lnTo>
                  <a:pt x="11007" y="21600"/>
                </a:lnTo>
                <a:arcTo wR="10177" hR="21600" stAng="5400000" swAng="66096"/>
                <a:lnTo>
                  <a:pt x="10592" y="21582"/>
                </a:lnTo>
                <a:arcTo wR="10177" hR="21600" stAng="5466096" swAng="5333904"/>
                <a:close/>
              </a:path>
            </a:pathLst>
          </a:cu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urved Up Arrow 25"/>
          <p:cNvSpPr/>
          <p:nvPr/>
        </p:nvSpPr>
        <p:spPr>
          <a:xfrm rot="10800000">
            <a:off x="2793600" y="1218600"/>
            <a:ext cx="3505320" cy="685800"/>
          </a:xfrm>
          <a:custGeom>
            <a:avLst/>
            <a:gdLst>
              <a:gd name="textAreaLeft" fmla="*/ 811800 w 3505320"/>
              <a:gd name="textAreaRight" fmla="*/ 2607840 w 35053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08" hR="21600" stAng="10800000" swAng="-5400000"/>
                <a:lnTo>
                  <a:pt x="11065" y="21600"/>
                </a:lnTo>
                <a:arcTo wR="10008" hR="21600" stAng="5400000" swAng="-3652167"/>
                <a:lnTo>
                  <a:pt x="21282" y="5400"/>
                </a:lnTo>
                <a:lnTo>
                  <a:pt x="20544" y="0"/>
                </a:lnTo>
                <a:lnTo>
                  <a:pt x="19169" y="5400"/>
                </a:lnTo>
                <a:lnTo>
                  <a:pt x="19697" y="5400"/>
                </a:lnTo>
                <a:arcTo wR="10008" hR="21600" stAng="1747833" swAng="3567952"/>
                <a:lnTo>
                  <a:pt x="10536" y="21570"/>
                </a:lnTo>
                <a:arcTo wR="10008" hR="21600" stAng="5484214" swAng="5315786"/>
                <a:close/>
              </a:path>
              <a:path fill="darkenLess" w="21600" h="21600">
                <a:moveTo>
                  <a:pt x="0" y="0"/>
                </a:moveTo>
                <a:arcTo wR="10008" hR="21600" stAng="10800000" swAng="-5400000"/>
                <a:lnTo>
                  <a:pt x="11065" y="21600"/>
                </a:lnTo>
                <a:arcTo wR="10008" hR="21600" stAng="5400000" swAng="84214"/>
                <a:lnTo>
                  <a:pt x="10536" y="21570"/>
                </a:lnTo>
                <a:arcTo wR="10008" hR="21600" stAng="5484214" swAng="5315786"/>
                <a:close/>
              </a:path>
            </a:pathLst>
          </a:cu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340344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4"/>
          <p:cNvSpPr/>
          <p:nvPr/>
        </p:nvSpPr>
        <p:spPr>
          <a:xfrm>
            <a:off x="2870280" y="1905120"/>
            <a:ext cx="4495680" cy="342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rth Observ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rface, Satellite,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5568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man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9462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6894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bi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u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2040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7"/>
          <p:cNvCxnSpPr>
            <a:stCxn id="68" idx="3"/>
            <a:endCxn id="69" idx="1"/>
          </p:cNvCxnSpPr>
          <p:nvPr/>
        </p:nvCxnSpPr>
        <p:spPr>
          <a:xfrm>
            <a:off x="1955520" y="3142800"/>
            <a:ext cx="99108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Straight Arrow Connector 10"/>
          <p:cNvCxnSpPr>
            <a:stCxn id="69" idx="3"/>
            <a:endCxn id="70" idx="1"/>
          </p:cNvCxnSpPr>
          <p:nvPr/>
        </p:nvCxnSpPr>
        <p:spPr>
          <a:xfrm>
            <a:off x="4546080" y="3142800"/>
            <a:ext cx="11437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Straight Arrow Connector 13"/>
          <p:cNvCxnSpPr>
            <a:stCxn id="70" idx="3"/>
            <a:endCxn id="71" idx="1"/>
          </p:cNvCxnSpPr>
          <p:nvPr/>
        </p:nvCxnSpPr>
        <p:spPr>
          <a:xfrm>
            <a:off x="7289640" y="3142800"/>
            <a:ext cx="9151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5" name="Oval 16"/>
          <p:cNvSpPr/>
          <p:nvPr/>
        </p:nvSpPr>
        <p:spPr>
          <a:xfrm>
            <a:off x="1422360" y="3886200"/>
            <a:ext cx="198108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4089240" y="3886200"/>
            <a:ext cx="205740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Receptor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6756480" y="3886200"/>
            <a:ext cx="198108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8"/>
          <p:cNvSpPr/>
          <p:nvPr/>
        </p:nvSpPr>
        <p:spPr>
          <a:xfrm flipV="1">
            <a:off x="2413080" y="3886200"/>
            <a:ext cx="144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30"/>
          <p:cNvSpPr/>
          <p:nvPr/>
        </p:nvSpPr>
        <p:spPr>
          <a:xfrm flipV="1">
            <a:off x="2413080" y="3125880"/>
            <a:ext cx="1440" cy="760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41"/>
          <p:cNvSpPr/>
          <p:nvPr/>
        </p:nvSpPr>
        <p:spPr>
          <a:xfrm flipV="1">
            <a:off x="7822440" y="3123720"/>
            <a:ext cx="1800" cy="760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42"/>
          <p:cNvSpPr/>
          <p:nvPr/>
        </p:nvSpPr>
        <p:spPr>
          <a:xfrm flipV="1">
            <a:off x="5079240" y="3123720"/>
            <a:ext cx="1800" cy="760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0:41:51Z</dcterms:created>
  <dc:creator>Google</dc:creator>
  <dc:description/>
  <dc:language>en-US</dc:language>
  <cp:lastModifiedBy>Rudy Husar</cp:lastModifiedBy>
  <dcterms:modified xsi:type="dcterms:W3CDTF">2009-10-26T01:14:57Z</dcterms:modified>
  <cp:revision>14</cp:revision>
  <dc:subject/>
  <dc:title>PowerPoint Presentation</dc:title>
</cp:coreProperties>
</file>